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0ACCB-EF62-4CC4-B34D-3853000E38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77137-F66D-44D8-AF56-CEECCD4DC0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s://upload.wikimedia.org/wikipedia/commons/1/12/Singapore_Botanic_Gardens_Cactus_Garden_2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AAA13-6E87-4A96-8414-1D2E29A09C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EC3BF-F0ED-49D1-AA16-C049EA2133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schoolworkhelper.net/2010/07/the-calvin-cycle/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469AD-58ED-4881-BFF3-DC0698D206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schoolworkhelper.net/2010/07/the-calvin-cycle/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8C2CB-6431-4FEE-BBCE-67C1B6E04C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9FA89-2DE3-404D-BA55-3582949B9B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schoolworkhelper.net/2010/07/the-calvin-cycle/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97CC3-448B-489B-BD5E-0FB85EECA0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wikidoc.org/index.php/Thylako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E4C94-A985-4817-887C-4C033926C1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62E1-60D9-47F4-BE66-B5BCD8A87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6449-6A35-41E4-B90F-DA8BA3B4E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8FC7-6049-48FA-8A07-15526CAFC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8580-C119-4D3D-87FE-4C46F8A0C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8419-0717-47DA-B526-B8FE8786E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1DC4-A1EE-4383-9C1F-4FE690337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B661-DCB5-49E5-945A-1018A76F3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AFE2-F9D1-43EB-B794-2D6C52240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F2A3-F938-41AC-AED3-CE79772F9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3AB4-223C-4A91-A49F-43B136024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9DED-CB7B-4058-A62E-E6906A593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5546-8652-4AC0-BDAC-52B9AB0D7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30902-BED1-40B5-8F56-99FE4E8438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458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athways of Photosynthesis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ight-Independent 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lvin Cy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curs in the stro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 enzyme-catalyzed re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ph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carbon fix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reduction re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RuBP regen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7" descr="c10x17calvin-cycle"/>
          <p:cNvPicPr/>
          <p:nvPr/>
        </p:nvPicPr>
        <p:blipFill>
          <a:blip r:embed="rId1"/>
          <a:stretch/>
        </p:blipFill>
        <p:spPr>
          <a:xfrm>
            <a:off x="1757520" y="609480"/>
            <a:ext cx="5627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lvin Cy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very 3 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olecules that enter the Calvin cycle, 1 G3P molecule is produc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 G3P molecules are used to regenerate RuB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c10x17calvin-cycle"/>
          <p:cNvPicPr/>
          <p:nvPr/>
        </p:nvPicPr>
        <p:blipFill>
          <a:blip r:embed="rId1"/>
          <a:stretch/>
        </p:blipFill>
        <p:spPr>
          <a:xfrm>
            <a:off x="4648320" y="2181240"/>
            <a:ext cx="3809880" cy="37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at step-by-step of Calvin cyc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cience.smith.edu/departments/Biology/Bio231/calvin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cGraw-Hill Ryerson self-qui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ergy 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very 1 G3P molecule that comes out of the Calvin cycle,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9 AT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6 NADP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nee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8" descr="c10x17calvin-cycle"/>
          <p:cNvPicPr/>
          <p:nvPr/>
        </p:nvPicPr>
        <p:blipFill>
          <a:blip r:embed="rId1"/>
          <a:stretch/>
        </p:blipFill>
        <p:spPr>
          <a:xfrm>
            <a:off x="4648320" y="2181240"/>
            <a:ext cx="3809880" cy="37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ght Reactions Rec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2" descr="Thylakoid_membrane"/>
          <p:cNvPicPr/>
          <p:nvPr/>
        </p:nvPicPr>
        <p:blipFill>
          <a:blip r:embed="rId1"/>
          <a:stretch/>
        </p:blipFill>
        <p:spPr>
          <a:xfrm>
            <a:off x="963720" y="1981080"/>
            <a:ext cx="72165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tosynthesis R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 get that Photosynthesis song out of your head and fill it with a photosynthesis rap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youtube.com/watch?v=pE82qtKSSH4&amp;feature=end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31T22:11:05Z</dcterms:created>
  <dc:creator>rubina khan</dc:creator>
  <dc:description/>
  <dc:language>en-US</dc:language>
  <cp:lastModifiedBy>rubina khan</cp:lastModifiedBy>
  <dcterms:modified xsi:type="dcterms:W3CDTF">2015-10-23T19:31:24Z</dcterms:modified>
  <cp:revision>35</cp:revision>
  <dc:subject/>
  <dc:title>PowerPoint Presentation</dc:title>
</cp:coreProperties>
</file>